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5C3D2-23F2-4145-B76D-786E4E4DB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E19FA-C69F-4014-8FDF-201CA7D6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83399-FD5B-4374-8E13-A83F5F67F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138E0-5858-4FE4-A38E-DB1C6F3C1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360BB-8776-432C-8390-3067BB298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D0181-9520-4E6D-818C-FA1F859E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F2E3D-F26E-4CB1-A701-B30C651E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CE3B2-6BC7-48FD-BBC3-5C7B3395D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B9A37-D8FF-48AB-8C01-74F6D4D0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A2AB-5EFD-45A3-8229-67C9757A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C5D1-4F82-4C11-9FC1-9CE61BD66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4D5E-29E1-470D-8A37-4EADE4B30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8F3E-CE85-40A0-9355-4D681C00C17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E7701075-58CD-4DE2-A169-3B9762EAA1C7}" type="datetime2">
              <a:rPr b="0" lang="en-GB" sz="4000" spc="-1" strike="noStrike" u="sng">
                <a:solidFill>
                  <a:srgbClr val="000000"/>
                </a:solidFill>
                <a:uFillTx/>
                <a:latin typeface="Arial"/>
                <a:ea typeface="Verdana"/>
              </a:rPr>
              <a:t>Thursday 30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